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1940-640B-4788-AFC8-E214D0D8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6BC-B892-4B6F-88C8-93D10940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B15-101B-455B-8A6F-24D31E40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92F5-70DD-47A8-ADB4-046E9CCD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4C3-6ACA-49F4-B3A5-0C1EE167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024B-345A-4EA4-95BE-30A54E13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26AE-8330-4ACF-82A3-9BEF9A62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1DE-DCFB-4DC9-AF00-B321CAC8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E7E-5F50-4EF8-B82C-2667C95E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096B-B856-43D2-B4A0-3507D787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E324-AEF2-451B-B3F4-89587FFC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250-9D19-4E3C-9D51-118543BE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3042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6929-1EE0-4C99-B3EC-966DDA58F041}" type="slidenum">
              <a:rPr b="0" lang="en-US" sz="1400" spc="-1" strike="noStrike">
                <a:solidFill>
                  <a:srgbClr val="03042b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755640" y="19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3042b"/>
                </a:solidFill>
                <a:latin typeface="Trebuchet MS"/>
                <a:cs typeface="AL-Mateen"/>
              </a:rPr>
              <a:t>الملتقى الأول للتجارب المتميز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3042b"/>
                </a:solidFill>
                <a:latin typeface="Trebuchet MS"/>
                <a:cs typeface="AL-Mateen"/>
              </a:rPr>
              <a:t>للجمعيات الخيرية السعودية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332000" y="4869000"/>
            <a:ext cx="64008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3042b"/>
                </a:solidFill>
                <a:latin typeface="Trebuchet MS"/>
                <a:cs typeface="AL-Mateen"/>
              </a:rPr>
              <a:t>جامعة المجم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3042b"/>
                </a:solidFill>
                <a:latin typeface="Trebuchet MS"/>
                <a:cs typeface="AL-Mateen"/>
              </a:rPr>
              <a:t>الاثنين </a:t>
            </a:r>
            <a:r>
              <a:rPr b="0" lang="ar-SA" sz="3200" spc="-1" strike="noStrike">
                <a:solidFill>
                  <a:srgbClr val="03042b"/>
                </a:solidFill>
                <a:latin typeface="Trebuchet MS"/>
                <a:ea typeface="AL-Mateen"/>
              </a:rPr>
              <a:t>11</a:t>
            </a:r>
            <a:r>
              <a:rPr b="0" lang="ar-SA" sz="3200" spc="-1" strike="noStrike">
                <a:solidFill>
                  <a:srgbClr val="03042b"/>
                </a:solidFill>
                <a:latin typeface="Trebuchet MS"/>
                <a:ea typeface="AL-Mateen"/>
              </a:rPr>
              <a:t> صفر </a:t>
            </a:r>
            <a:r>
              <a:rPr b="0" lang="ar-SA" sz="3200" spc="-1" strike="noStrike">
                <a:solidFill>
                  <a:srgbClr val="03042b"/>
                </a:solidFill>
                <a:latin typeface="Trebuchet MS"/>
                <a:ea typeface="AL-Mateen"/>
              </a:rPr>
              <a:t>1434</a:t>
            </a:r>
            <a:r>
              <a:rPr b="0" lang="ar-SA" sz="3200" spc="-1" strike="noStrike">
                <a:solidFill>
                  <a:srgbClr val="03042b"/>
                </a:solidFill>
                <a:latin typeface="Trebuchet MS"/>
                <a:cs typeface="AL-Mateen"/>
              </a:rPr>
              <a:t>ه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C:\Users\o.okasha\Desktop\الملتقى\Untitled-2.jpg"/>
          <p:cNvPicPr/>
          <p:nvPr/>
        </p:nvPicPr>
        <p:blipFill>
          <a:blip r:embed="rId1"/>
          <a:stretch/>
        </p:blipFill>
        <p:spPr>
          <a:xfrm>
            <a:off x="4059360" y="828720"/>
            <a:ext cx="950760" cy="682560"/>
          </a:xfrm>
          <a:prstGeom prst="rect">
            <a:avLst/>
          </a:prstGeom>
          <a:ln w="0">
            <a:noFill/>
          </a:ln>
        </p:spPr>
      </p:pic>
      <p:pic>
        <p:nvPicPr>
          <p:cNvPr id="82" name="صورة 8" descr="majmaah-logo.png"/>
          <p:cNvPicPr/>
          <p:nvPr/>
        </p:nvPicPr>
        <p:blipFill>
          <a:blip r:embed="rId2"/>
          <a:stretch/>
        </p:blipFill>
        <p:spPr>
          <a:xfrm>
            <a:off x="6875640" y="692280"/>
            <a:ext cx="1771560" cy="866520"/>
          </a:xfrm>
          <a:prstGeom prst="rect">
            <a:avLst/>
          </a:prstGeom>
          <a:ln w="0">
            <a:noFill/>
          </a:ln>
        </p:spPr>
      </p:pic>
      <p:pic>
        <p:nvPicPr>
          <p:cNvPr id="83" name="صورة 9" descr="mohe_2012_12.png"/>
          <p:cNvPicPr/>
          <p:nvPr/>
        </p:nvPicPr>
        <p:blipFill>
          <a:blip r:embed="rId3"/>
          <a:stretch/>
        </p:blipFill>
        <p:spPr>
          <a:xfrm>
            <a:off x="468360" y="765000"/>
            <a:ext cx="1990800" cy="6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7524720" y="-49320"/>
            <a:ext cx="138276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اسم الجه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121400" y="2081880"/>
            <a:ext cx="690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3042b"/>
                </a:solidFill>
                <a:latin typeface="Trebuchet MS"/>
                <a:cs typeface="AL-Mateen"/>
              </a:rPr>
              <a:t>جمعية بني ظبيان الخيرية- الباح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7118280" y="263520"/>
            <a:ext cx="2075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اسم التجرب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338920" y="1884960"/>
            <a:ext cx="44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بطاقة بحث حالة أسرة / يتي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6929640" y="263520"/>
            <a:ext cx="22320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أهمية التجرب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79280" y="712080"/>
            <a:ext cx="8496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-تقدم المساعدة للمحتاج وفقا لدرجة احتياجه التي تظهرها البطاق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-تحقيق خاصية المرونة في البطاقة من خلال التغيير في درجة المعيار المستحقة بزيادة درجاته متى ما ظهر زيادة تأثيره – من خلال دراسة تقويمية للبطاقة على حاجة المستفيد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-الحصول على تقارير فورية في عدة صور : ( المحتاجين على مستوى القرى – المحتاجين على مستوى الشرائح – المحتاجين على مستوى القرية والشريحة – الأسر وحالة الإعاقة – المحتاجين المستأجرين للمساكن – ويمكن الحصول على التقارير للأيتام بنفس النوعية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6808320" y="263520"/>
            <a:ext cx="23828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أهداف التجرب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50920" y="825480"/>
            <a:ext cx="871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-إتاحة هذه الخدمة للمستفيد في تعبئة البطاقة من داخل بيته من خلال توفير البطاقة على موقع الجمعية الإلكتروني، تحقيقا لشعار الجمعية ( نصل إلى المحتاج ولا نكلفه مشقة الوصول إلينا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-إيجاد أداة تحقق الموضوعية في تحديد حاجة اليتيم من خلال عبارات وصفية محددة ، وتحويلها إلى رقمية ، فلو بحثت الحالة من أكثر من باحث ستعطي نفس درجة الاحتي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6667200" y="263520"/>
            <a:ext cx="2521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إجراءات التنفي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395280" y="1112760"/>
            <a:ext cx="81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-تعبئة بطاقة الحالة من المحتاج على موقع الجمع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-تحال البطاقة إلى باحث القرية للتحقق من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صحة المعلومات واستيفاء بقية المستند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-بعد أعطاء الباحث رأيه في الحالة من خلال يوزر خاص به ، تحال البطاقة إلى لجنة المساعدات لإصدار قرار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-يدخل عضو لجنة البحث من خلال يوزر خاص باللجنة على كل استمارات البحث الواردة من الباحثين ودراستها وإصدار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قرارها :( - إدراج الحالة ضمن المستفيدين أو صرف إعانة مقطوعة أو رفض الحال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-بعد إدراج الحالة ضمن المستفيدين يفتح لها ملف وتصرف بطاقة البركة لصرف مستحقاتها من صراف الراجحي ،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كما تصدر بطاقة تعريفيه للمستفيد لصرف المساعدات العينية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6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-تحدّث البطاقة كل عام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6924240" y="263520"/>
            <a:ext cx="2084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نتائج التجرب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6037920" y="235440"/>
            <a:ext cx="317232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شواهد نجاح التجرب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6171120" y="307800"/>
            <a:ext cx="31158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شواهد تميز التجرب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08:53:38Z</dcterms:created>
  <dc:creator>o.okasha</dc:creator>
  <dc:description/>
  <cp:keywords>Education</cp:keywords>
  <dc:language>en-US</dc:language>
  <cp:lastModifiedBy>o.okasha</cp:lastModifiedBy>
  <dcterms:modified xsi:type="dcterms:W3CDTF">2012-12-23T14:24:23Z</dcterms:modified>
  <cp:revision>8</cp:revision>
  <dc:subject>Template Ready</dc:subject>
  <dc:title>الشريحة 1</dc:title>
</cp:coreProperties>
</file>